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009CA-1807-42E8-8213-432AAF82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8E30-497C-459C-AD08-AD3D1E7E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F4EB-B0C6-4C8D-B3D0-8F5CFD41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0AA4-1923-45B2-B448-D5EB4741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9525-2FE0-46FE-ACC6-86D299D7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17D9-CCC8-469D-BBD7-1962C7D0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0F33-1DDB-4183-9ED2-920077C7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5874-2144-4C1F-AEA5-8F64383B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CAEA-A7F1-447C-9301-326B8738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385D-AA38-4C5F-9584-85B53ACA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45C3-FF25-4BCF-A248-1A0B991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215C-7D14-47FB-A8B0-4B4F4ABF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89D2-0889-4803-8F84-5E5884D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8F7D-2C70-42FC-93EE-2189E3C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E43D-8257-4D42-B763-15BE7473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004E-9075-45A7-8829-51AAF660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047B-C03D-4F41-9652-B524F7AB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AB0F-C32A-4DAD-9143-8BB12F75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59692-C8B0-4B37-8F97-4B7A9891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38A6-D05A-4F16-8F7D-7BE4287C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699A2-0344-4ACD-B51C-AE49EA1E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59EF8-2A48-4A76-AC7D-8383C2CA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841BF-6D71-4007-87A8-0645271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80C83-1206-43F6-A038-4848CE9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7E9D-86FA-4B21-9E15-F05E8CE96C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E0E-EF69-464F-9F60-EB3E02118D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ious Messeng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1120" y="3024360"/>
            <a:ext cx="69865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erious about delivering mess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Kevin Scrog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rey Faib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featured instant messaging client designed in J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ble of running on multiple plat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interactive and user-friendly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-designed back-end protocol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ent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name, Nickname, Status, Contact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Pro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, E-Mail, Location, Gender, Birthday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izable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/Delete/Block Cont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 Files (Time Permitt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ver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Authenticates various client cha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(ie. login, password, adding contacts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onnecting Cli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lient Information Stor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ata stored using SQL Server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Interactive GUI for monitoring/debug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iable, customizable, user-friendly, fully-featured instant messaging cl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cution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557360"/>
          <a:ext cx="8424720" cy="5084640"/>
        </p:xfrm>
        <a:graphic>
          <a:graphicData uri="http://schemas.openxmlformats.org/drawingml/2006/table">
            <a:tbl>
              <a:tblPr/>
              <a:tblGrid>
                <a:gridCol w="5256360"/>
                <a:gridCol w="316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cke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 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abase Managemen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Ser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tworking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Cli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lf-Done (Nov 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ensive T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ra Features + Finishing Touches (Time Permittin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cember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36Z</dcterms:created>
  <dc:creator>Kevin Scroggins</dc:creator>
  <dc:description/>
  <dc:language>en-US</dc:language>
  <cp:lastModifiedBy>Kevin Scroggins</cp:lastModifiedBy>
  <dcterms:modified xsi:type="dcterms:W3CDTF">2010-11-02T13:00:01Z</dcterms:modified>
  <cp:revision>5</cp:revision>
  <dc:subject/>
  <dc:title>Serious Messenger</dc:title>
</cp:coreProperties>
</file>